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910-DE37-469B-871E-D45FB165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61F-7CB1-460B-AE26-8D202255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21148-ED1F-4737-BE34-0132184A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C8765-C036-4E19-AA25-9602DB4C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4E6A0-0550-4A7A-A3D8-F8354E87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EFB8B-2B12-4DD7-BE3A-5A3DF3A1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BC507-8A8B-4A20-B3B5-A7D0B3EF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FAC8C-CA2C-4E0B-9296-9014914F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0EE18-6BE9-47D6-AE7A-E0213BCB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11C49-6B66-489B-931E-ED6074C9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8578D-F823-48E5-B256-D447FF11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BF8DD-B648-41B2-8BCD-8439891C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0705-AE4F-4275-B758-ABBC89A0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C7FAE3-C61E-450F-B138-DEE369BA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0D7F0-93C0-49EB-8319-490BA862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A9616-7614-4B47-B65B-35426876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D6D23-57E4-48E7-ADC3-CB601513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5C574-8BFF-48C7-9D25-81C7B0B2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7CF04-9504-4EE0-8DB8-A0712464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6CB73-2A0D-484D-9F8B-D4D0F92A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F7E78-D129-4640-B712-6DFFBA29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FCAE3-DBA0-4D91-8966-6C98187C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C95DA-48C2-431C-AD18-AC6DE321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C5A-6185-4C08-8601-59310E67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46B5B-8112-42D3-937D-E80CBAC8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3E24D-3ED2-4C7F-B94A-A2A7A401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69B41-D19F-4A66-999F-6ED95E25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E3D2F-7229-4DB3-855F-1DA3DFD9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9C6872-BF7E-42F0-9DAF-4BDD2909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99439-92A6-4122-8841-E212AF22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ADC75-173E-4131-8C0C-F5ADDD45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A9F63-4B1B-4898-BFC9-CE285863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42A4B-7B94-46F6-83F6-151CAD5C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C5894-1890-4BA5-ADFC-4CA2591F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6403-9A25-4AC6-B828-C832AE70D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7E448-F421-445D-B44A-14E24953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629E2-CDF5-421C-AABF-7E1EDDD2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901A4-A18D-4AE0-8D3C-63657D40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4834E-3D3B-4E0D-BD98-9CDE67C4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08B0F-C0C7-4CA2-9F9F-900C73BE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2FD87-0145-4694-854A-9C36F01F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F1333-CB13-41C1-85B5-71D06805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E05AF-1F05-407C-872F-CE0A8EFF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F116F-05F4-4F83-ADAF-BE77BF1E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FCA2B-D060-448A-BEE0-D9C58C51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E658-48CB-4205-AFE2-CC30E94F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A1652-D1D2-4956-8CD6-3C349AB0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8C0A1-EBF2-4F98-B34D-A66AB788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44D4B-2F05-4E06-9BCA-AB0E7FF7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56D35-37ED-43BF-94A2-E5DE306D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0CD74-5F56-4317-BE70-CBE92262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FD571-CA1D-478C-AC27-AE17E30D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F1B748-DF29-4964-929E-0371F391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AA187-178F-4A4F-A2A4-4796CC6F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BF560-A431-473D-A5F5-9FFF41F5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91B61-E037-4432-AAC2-E47FA204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7C45-47B2-4266-8E3E-EEDAB105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6C254-0368-45E6-962C-E8B32BD2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54B10-1545-4D19-A30A-0837CA13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AE111-77FB-4AF7-9957-AB1B6EC9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5492C-CE14-4B3D-B348-668030D2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8F2E6-CFCF-4322-B264-D93AC9EA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143A4-4324-4BA9-BD31-950B9AD9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49EAF-6C25-4199-A869-BCDD238B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1591DD-7264-4BAE-B101-109696D7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315B8-FCB1-4BF2-BA63-913E9111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A07E1-F127-4340-B099-B1983F0A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EBF9-270D-47E3-93E5-64F05724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42B6D3-05AD-44D6-B441-E3A0492C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C5922-7CBA-4F4F-B7D6-C21C03E6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433D1-FC92-4EFC-9462-8B35A061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EE3C59-43F7-42AE-A052-A0D03735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1984D-094F-4FB9-A069-275C91E9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64855-2FE6-41D3-ADB0-B81FEB90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55735-3972-447C-971E-6A57C768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23F20-1981-4E00-BB9A-1D4ED810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1C42D3-9629-4B81-9C8D-808FB475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5821B9-C8F3-4AC2-9284-075F1F9E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5D47-CD5A-452C-BA56-D4D333EA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D9BCD-0A1F-4EF6-9F32-B62A5A99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99C75D-7D11-45E2-9876-23104627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6DAFE6-8C7C-4B61-8285-5C42BE7F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D6C182-7E38-466E-9F39-2A75B421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72110A-309D-4827-AB98-6458325B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F8E18-E092-44E7-8CAB-E25ED350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E2C2B-B7AB-4EEE-A6A1-DAAE0CAD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8EABBD-2C41-479F-9BF5-22B0E897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34DA5-FCE0-4D07-9492-0D57C90C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A0B1B3-BBB9-4684-ABFE-98E31CA6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FBE5-07DE-4077-908D-794CEF06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F04FE8-257E-4F58-8738-A655E0AE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01D633-244D-41FA-B6A1-297415A6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49AD4-3C91-468E-BF07-B48A04B1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17CB87-8ED2-47AB-97DF-728860E0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92DF9A-5F36-46E2-836C-80C60907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D97C29-F7D5-4FCA-A564-F71E98EA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490BD3-8C8E-453F-AEEC-C5341917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0B1F3A-A467-4156-9893-7EE4631D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DC2F63-A3D0-4323-9D2E-5F12DEA4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54015D-2B88-4D5C-9A44-4D1E013B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FB0B-3494-4A2E-8E0A-DD33229A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F22708-1CC9-44C5-ADD9-2715A970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CF382C-F0A0-4A68-A99F-A768E3DD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5F6316-7FA5-4CAF-8FA2-04C41EB3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8FB285-898C-476C-AC1D-B9648C90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153DA0-FD7E-46B3-AA8A-DD2BDA8B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323BA1-3E79-4127-91DB-E603CCDE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464DA1-53D5-4BA8-A5E6-E5A27806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0E3779-CE57-45BA-AA2B-72D899A4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6C97D6-B477-4B53-9CB1-337176E4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A5B4B9-BD0C-485C-B0F6-5D02768E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B58E-B4DC-4643-B157-4CEE14E6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4B35-C940-4EC8-9DDD-6FF15C20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211831-7F85-4C2E-81D9-113F024A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6B6271-C42A-4A86-B283-9C8841C5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9E54BA-7733-45AB-969A-89258A69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D2166C-FD93-46AF-9559-709BBC32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0F2F02-CE4A-44B3-9744-DA24DD18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1EF2F2-7E09-4B3A-98AE-20F91E39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2C9D05-4EE7-4352-9AB1-91ADF6A2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DA3034-9EB0-4B06-BBBA-F78CAD55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61EE44-5ABF-4B40-840D-545B0979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77EA46-AE57-451F-8F89-DE7A5908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E241-6D54-4977-A605-825E32C4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43F60C-DD43-4D9B-9E86-A417C717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85BDD-D2E6-49FD-B69F-FA85F86A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8CB05-73D6-498C-8CA3-65FB2004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5D60F2-7CFB-427A-B4AA-9D0BB783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BB3E3-3DCC-4F99-945D-1A16E1A1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84EEBB-E596-49A7-96AB-9922690A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5096FB-7D69-47C1-8AFB-39F1B096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D54E99-BCF1-43CC-AAC6-2FC92DD3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0D5609-A048-491E-AADC-AF25E1CF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6ACC2-8E8D-402B-9919-A7B0FA19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9041-4128-4925-BD5A-B80AF4C5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E41D8B-8A9F-45EF-B2D9-EED011B3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40B599-FB27-4488-9DE6-77F3F06E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13643D-7E6F-40DB-99AB-13C41208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FD43A8-041A-4955-A79A-B6113186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57CC4A-F272-49E8-92AA-CB7181D4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80AF5-2873-4F24-BD72-EB0F6DC2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D7D206-737E-4F63-86F6-B15FE0E6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C515F5-7DCB-46B4-968C-1DFB7B68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4F8A91-EFD1-4E3F-964F-90859AC0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E13159-BE18-4549-8DED-D302F787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A033-B86D-4513-9B60-DC2158CDE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04A563-48F6-464E-BFF5-5BB3F0DA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321E0E-A467-4484-90B3-640FF083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ED7522-C3B3-4481-B44D-A49D6115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E92AA0-530B-4B90-AC6B-7BC91F6B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125EC6-CDC3-42CE-86C5-E725E10C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7F5B26-E63F-4EA1-B791-D0BC4A98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08ECC-FD01-4624-9AAF-22D7BB14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AEB2DC-8334-4A8E-9FE9-AF623CB1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DE75AB-87AA-492E-9AEA-7E75B737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587A2E-9553-44AD-BC11-DFE3A106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E2F5-8E8D-46FD-BA68-578FF90D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C06F5F-8E33-4AC6-8C7E-A18DD799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DD0F21-E9C8-405D-9F2A-7087704E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90BFDE-22D0-4228-B531-4C7F21CD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5ABD2B-AD0B-4BB9-85C7-D348655C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C06933-2A35-457F-96D2-59DBEF77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CD85D8-EB6C-48E1-9EB4-ED47B1D7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44A16A-B482-4D64-B5AD-0ED9A85E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ABE581-404C-41D2-B586-4A4FD991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219332-CD04-4FC8-895E-3EF39174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2D9D31-0D43-4AC1-AF39-F1783890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590F-3439-4F4C-8261-53022272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6AC4DC-CCC1-4BC4-9D00-7B9A8C56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334ADE-F495-4F8B-82B4-3765661C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1141A5-6E74-4557-B59D-7C68EE29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401177-279B-42B7-92DC-8B21EBBB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1F43B1-5ECF-48C1-9DFF-FFB81511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0C9082-ED0A-491D-A080-1F623FE9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71E76E-BED7-41A1-A6F6-44F9B9FE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35631A-EDBC-4EF3-BEA2-5EA875AA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9D9290-F90C-486E-AB7B-2F02E4F8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BAFFF8-0587-4B11-8FB2-C162659C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3107D-249C-47B7-8E48-4D58ABB7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08255C-1F62-4FEB-ACE7-2CBD1C7F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5BD0BD-9854-4607-9F5A-CBB5492E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8B37E0-B4E7-4CCA-B6D4-8B8A527E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48D5BE-D456-4783-BF65-D8FDF7E2D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C7B96A-2442-4D6E-97B8-4F59ED06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EB50B1-0A1F-4C3E-BF41-0E41EE44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17291E-0DFC-404A-BBC4-F5030CE8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522BF0-70C0-4796-B669-103D848E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AF6789-8CA4-48CA-AFDE-D117B15B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9DA82B-CA6B-462B-B135-CF5C0A65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8FF5-F5DA-4A50-B7BC-0BC8319A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A062F5-A8A7-4CE6-9DC2-2FFC747D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39A0C1-B687-487C-AA96-A4B005DC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D127D6-C9B6-4EEC-B1D7-6B2FB358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F9D166-6784-4198-B5DC-0F786AF3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FDC4E4-BCB7-4310-8A40-CD0FFF79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3CD4EE-9DA8-44A2-AE9D-49AA4445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DEA3D9-4CA8-4362-BB0A-8CC2B399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639706-3B45-4CA6-B41E-077BDAE40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78C735-2780-41CB-80E2-3D4A4C74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FC5E25-A5C0-4A4B-A42E-0AF792F6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7A9A6-676C-499C-8F16-FF503D35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3ECF45-4DDE-4CD3-86E9-8CB5D579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BDD241-7BEF-4DB9-8514-08398883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C0AFC1-365A-4FFC-9472-CF67D844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A1906D-CADB-4410-916B-18E22F2F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8FE1D3-834B-4D2C-A02D-4E2CC95A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127E84-F39B-4C30-AE11-20F0E8DE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B16DA3-20E3-40BB-9FD4-33B30A04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10533E-439B-4DD7-A3AB-3F062F4C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FDEA20-1A46-40F6-8984-A1F52361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66AAE4-45A2-4D7B-97B7-12B877B9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B95D-DF8E-4564-A167-B9F5DB51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ACCE15-E81D-4F05-A9E4-E720D572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107A36-872B-4432-96AE-23A10FA8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138CF9-76C5-4B85-9E17-CC36965C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AF321C-C844-4C6D-AE96-502D24F5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2AD92C-1D0B-4BF6-875B-B62A331C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8370A7-F499-4FCA-BD87-A4B644C7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790876-8CB4-4DA3-AE69-226ABAFD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B5A903-8A30-4D5F-A3BC-3C5CDAEE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59BDEC-7DC5-4CB1-9EDD-B2A93105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449830-975E-421D-BC5F-ACC2D60F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98D-BE9C-4BE1-8674-2C13389A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3AAA-CF5B-45D0-B67A-1858E682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2DC755-D002-423E-BE41-67159D41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5424F8-ED67-4CA9-AA18-171970F1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A3C333-F269-436C-B318-8E020091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77573D-9210-49FA-98AB-C0143E4D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FEB72A-AA97-4B65-80BD-FE566A8E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5704A1-1179-4519-AEF7-20FDECAB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D42085-A244-459A-AD20-E295E963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8CBEAF-894B-4C18-A6E9-EEA25F92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1D533C-B90B-400A-B71E-D65296D4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FFD5BF-1431-4D4A-9879-93470435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4AC5-31E2-4DA1-931B-D481DC4F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B08E00-3BC3-420F-84AE-BE9CE23D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ACDB94-C3F4-407A-A3F5-523CB1FEB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07B22D-DBCC-4A3D-954D-241BF308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3E2CFB-3A9F-4800-9A44-1EE2C884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912977-CA48-4156-988D-7310BAC0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681D39A-C52A-48F3-BB7E-7A5C1291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FE07F9-A492-4049-B80B-AE63D730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1E6DFE-BD7D-402D-B430-C2C00446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04E799-4A99-43F5-8B34-D8DB0A80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511F89-16E2-43F0-A8BF-FF64B698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DBF0B-BE65-48A9-B3FB-612FCD39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291704-D73A-43A0-8B1D-E8DDD217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62B8D0-2C3C-4B67-9C71-EE92AF2F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1891EF-712C-42D2-B5E6-090E2BEC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B42A47B-B502-4A38-AD15-AE4DD9F9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C22787-7C01-4457-998E-A8578161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D38BD9-6A5D-4F3C-AA23-952C1BBB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48807B-35BA-488C-9CD7-FFC55EED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A08E2E-7766-431A-8BA6-BEB53BAD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F614DE-5985-4A18-8570-C32230C9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439945-8025-4853-B03D-466855AD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559EC-3F46-4616-8117-B5900989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92CDD0-41DF-417B-A9B9-9DB7E407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834EC6-F4D4-475C-853D-63C9CDDD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150D7B-7BC1-4994-AB91-3055E438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4B805D-A5E9-45A0-8AD1-D5224358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B78E8C-EB91-4A40-861F-F8414663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B70DF3-8544-4DF8-97C4-9DE0A660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3D68C0-E038-4EC7-AABE-9D70B134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7BCB44-F568-4A33-824A-6B48E376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974B0E-A840-4DA0-9F39-A472FFF9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4C04F8-A515-422E-B455-F08FEE24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CB69B-F871-4309-B6AC-D8724E55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C27655-00A7-4309-8C8C-7CA5D7A9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B1981C-5724-41C7-827B-747F577D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41FDE6-D7EF-4F28-91F7-EEC317F6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0ED8C1-7F5F-4942-A189-FA2B0174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D94C6D-4417-493E-81C8-C6E80D80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5D307B-957C-4ACE-861A-A745575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1B0641-395D-498F-B2E7-AC6064EC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491025-9972-4131-8D32-15CA969B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26087F-18D5-4135-A838-A6AD08AF0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926E3C-2BE7-47FF-B2B8-5A20B301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530DB-46E2-4682-A9CC-9842AC4A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42F9EB-C412-4743-A077-592206A9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A1CED7-B65F-4BCB-86F9-811EBA1B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C905EA0-952A-4654-A174-806D1BAC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200BA9-82AF-4D59-A75E-FD1D8158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0CEF7E-0A6A-45B6-A740-4B9F5970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B7D0ED-679D-44A0-9212-380230F2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3702F5-039D-4F94-816C-3CBFC5AC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FD2E71-9E5F-4553-8509-97F55797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627901-7DE5-42AD-844D-3D2BBAFC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5D6CB6-EAB5-4C36-BAAD-50910FA2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2940-79B3-45B5-86E9-E296D4B3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CFDE6E-3D55-4171-882F-BA5F4933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5482E7-A4C4-4A28-B3A7-21E40FFE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A4C5B2-2A68-422B-B9E6-98FF9609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42DDB6-F666-4E97-9C53-803EEDF8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D0849BE-16F1-4133-980C-7E911B6E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76522B-61EF-4280-B3AC-3DD78169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F02A8B-F5D4-4388-8F9C-F63A6933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C93CED-CD7B-4F81-B275-C304A29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42EFD8-58A3-4B94-8251-E72921AF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00703B-8EFA-466E-8BBE-F031AFED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FA782-4278-4DCA-B8B6-4BE8F38E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CBE474-2A49-479C-A75D-FAF0DBCE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FF3D8D-BC0C-4186-B191-E6C3DD52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D89442-3367-4E1A-8A0B-CF22D62B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3F8DA-1099-4C5D-9590-E782AB04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D95D-BA13-433F-8D81-13C944D7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A57-31E1-4410-9CE6-219CDC82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BE938-E059-4EB0-AAEF-57EAD359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DBFE3-FB79-4191-A3C9-7B9D38AE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8A75E-246F-4D9E-878C-CDDE92DB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DB2EC-FD9C-4BAE-8405-6F2ACCD2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3D17E-19F7-4977-8FBD-FD371B5D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B41A5-FCD3-4B02-95D0-9FC20B5D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F2B9B-02A1-49D0-BF99-B9EE3387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DE2FC-1734-4ADE-BC48-EC580D0B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12A26-6E6F-401F-836A-6C35F2AE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9A8D6-D779-402C-88D4-AA3517D1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5FA-4B97-40DA-B1A1-2C9B7295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E801B-6032-4726-BB5B-26DFD762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D8E81-7D65-4DB3-9633-012D35FC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84B06-42E8-43FA-B437-E2AB34E3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E249F-8A43-462A-BB06-A9CCA526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956AF-315F-401B-B9D8-EFD88AFB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1871E-577D-4778-A10F-6DB4F50C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88A72-9380-4180-8597-DCCD256C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5BAE0-7DB9-4E90-9C46-8F4A890B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13D13-B695-4F01-BA94-2CC9B921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F2E84-6E5A-4F14-94C3-3ECAE2E45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2F54-2DFA-4FB5-9EB8-317EF9EC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88E30-50AB-4C9A-918E-2AEB438C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451AC-D1C5-42D0-9A4B-0381676E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910CF-2C48-4084-9DDB-BC74BF96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D5F49-0396-44D6-BAE7-36E3C783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AEC7B-DFEB-4CCA-8E70-862E9887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A1375-01C9-4779-AC91-54B4248D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9CA6B-1A6E-4AD2-8244-55BEA659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93E04-B7BA-4B4C-8195-867D0780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DDC78-8EF4-47DA-982E-E338CBAB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A15F4-75A8-4F4D-83F4-092864B0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996F-4CDC-4110-81D3-3ABC57F7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877A2-AFDB-40F3-A0CC-49E16846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2ACA1-0325-4638-9D36-FEC18158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46EA9-652A-44C1-9063-82CA7B70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4E813-51C0-430E-8525-B2570346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01E17-EA5C-4370-B56C-A4D54C61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F821F-634C-4307-ABA9-267D6320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01EA7-F3D1-43EA-A71A-8F005F01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6ED65-8676-4520-B81F-5BE41E15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AEAF5-34B5-4D0F-9B87-F93BBB0D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7B4B7-6AF6-4522-AC36-D9F32BD1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9F4-7CEB-43D9-93BD-561B5DEA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76F52-349A-49CA-B6B0-77DE126C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462E4-FFA3-4273-A1CF-1C027114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DDDAB-1B3B-4F9C-A347-65E6B9B7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ECBDD-A2D0-4A54-A736-A01CAE95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8F0E4-906B-43F9-A4FC-0FE223D6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0A08C-C3CC-4B2E-90FE-85B7A7C9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17AED-CFD6-4C1D-B3DB-1F17565B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A2799-EDC3-4447-A1FF-9D2C0923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42D1F-394C-4EA0-9280-CCEE661B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CF8E1-50DB-4D50-A7DD-500FFA4D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0227-50C8-4D84-BF18-78E38E1F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5D377-EEDE-4E78-81B0-379AC333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81C6C-7342-4229-A953-5FD79A7B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A4ECF-8256-4F0B-BB41-9CA4E235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F2370-2F72-482E-ABCE-6EF6B1DF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69DF2-2587-4F14-8941-1CFBCD21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BDB68-1689-4258-A89E-30895169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CB2F3-515A-4D9D-BD4A-C8A25369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EA0B4-2B7D-4784-AD11-20C09480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A39D2-45A8-48E7-BC5E-A394280E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2EA95-E4CA-41C0-977D-859ECAAD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FBE9-1FB3-4D11-8C2A-AFDFC362BB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5545-3E84-4BCE-87FF-262B2D1C84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5856-5238-4FF7-87A4-1D3AF62E47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AF31-7C9B-450A-8679-2BF83D6A5D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0244-5626-4118-9603-1CD73ED719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6EB5-939E-452A-8FE7-1AACD18D41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9824-EA03-4F56-88CC-9E9CDF0B84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E8F1-8005-4094-8448-6D5D65F33C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905E-85E3-457A-9D88-BF79B87B65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8905-42C9-4A67-B4B9-26BA00A31F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B8B0-8375-4614-A0B4-D2D2ED0FF8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65ED-0531-4E0C-983D-665F9FFF2A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260C-829E-4CF3-BB5D-C2504F56E1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1029-AEF4-4629-B105-2857EF661A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0E00-3126-447E-858F-2BC0604849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A07F-2804-46FD-ADA6-B37E21372A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CA56-8261-4D1C-8AD5-4AA3042C05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ACC4-13D8-4676-B5B6-FAF135A1E6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E67A-20EB-4EDD-88D0-F64E63C077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5452-4FB2-4FDC-B902-40E6655B9B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B167-EA8F-4AC9-BCB8-3BC6A46F44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A8E0-48D3-4329-B0B5-FF816CC073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03FB-20AF-43FA-BEE6-84F78959E3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4C42-CC2D-4C55-8C70-10F2C772BA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EEB1-2248-4EE7-8640-336141D25C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0A3C-4C1C-4351-85F6-A793D80E40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2A0A-1605-4D28-93EF-500D33E8A9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D628-95F6-463D-8486-4684677EEF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5FF9-BF3F-4788-AC55-BA7D772994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89AF-7E64-4C5A-BD03-B8B0C37E67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D2D9-7058-41CA-AF70-14426BF80D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327A-2F9C-4034-A63D-5D38567927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011E-1C16-49E9-A722-7C57888B4E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867E-9BD5-4D9B-A8B3-42ACA2CCA1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3C18-372A-427A-A6E1-15CCAB2E9D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B54C-209E-49BD-9D97-45A224D293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05E5-2EB9-4AB1-84F6-44804189B4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8A4D-866F-47C6-8B16-22EA0A8C31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7AA8-3A0A-4B0F-B2D3-387E507BD8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A7F0-DABD-477B-9D29-FBABB5C34B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1874-D35B-433E-AD6B-305456579F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80C0-250C-425F-B8D1-7003AD0413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DD79-0311-4EC7-B381-BA259EB59E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CB8A-8463-43E5-AFD5-4B319D067A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6B1A-9E17-4AAA-9EC8-87493DFACE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4473-92D1-43EB-AABA-D252017922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9706-BA40-4AD3-A85D-F3B06C7EB5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A5D0-6F5B-41EA-A7DB-FCE1D40EC7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6B19-8C07-426C-A4BA-E127A44B7D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0ED1-5574-4224-BBBC-8A386C0F85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1127160" y="981000"/>
            <a:ext cx="6838920" cy="131436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1012680" y="2895480"/>
            <a:ext cx="7067520" cy="762120"/>
          </a:xfrm>
          <a:prstGeom prst="rect">
            <a:avLst/>
          </a:prstGeom>
          <a:ln w="0">
            <a:noFill/>
          </a:ln>
        </p:spPr>
      </p:pic>
      <p:pic>
        <p:nvPicPr>
          <p:cNvPr id="1333" name="图片 40986" descr=""/>
          <p:cNvPicPr/>
          <p:nvPr/>
        </p:nvPicPr>
        <p:blipFill>
          <a:blip r:embed="rId3"/>
          <a:stretch/>
        </p:blipFill>
        <p:spPr>
          <a:xfrm>
            <a:off x="255600" y="4289400"/>
            <a:ext cx="4772160" cy="2343240"/>
          </a:xfrm>
          <a:prstGeom prst="rect">
            <a:avLst/>
          </a:prstGeom>
          <a:ln w="0">
            <a:noFill/>
          </a:ln>
        </p:spPr>
      </p:pic>
      <p:sp>
        <p:nvSpPr>
          <p:cNvPr id="1334" name="矩形 40987"/>
          <p:cNvSpPr/>
          <p:nvPr/>
        </p:nvSpPr>
        <p:spPr>
          <a:xfrm>
            <a:off x="750960" y="5784840"/>
            <a:ext cx="317484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1469880" y="6215040"/>
            <a:ext cx="31752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6" name="图片 140289" descr=""/>
          <p:cNvPicPr/>
          <p:nvPr/>
        </p:nvPicPr>
        <p:blipFill>
          <a:blip r:embed="rId1"/>
          <a:stretch/>
        </p:blipFill>
        <p:spPr>
          <a:xfrm>
            <a:off x="749160" y="822240"/>
            <a:ext cx="4267440" cy="5010120"/>
          </a:xfrm>
          <a:prstGeom prst="rect">
            <a:avLst/>
          </a:prstGeom>
          <a:ln w="0">
            <a:noFill/>
          </a:ln>
        </p:spPr>
      </p:pic>
      <p:sp>
        <p:nvSpPr>
          <p:cNvPr id="1337" name="矩形 140290"/>
          <p:cNvSpPr/>
          <p:nvPr/>
        </p:nvSpPr>
        <p:spPr>
          <a:xfrm>
            <a:off x="728640" y="1592280"/>
            <a:ext cx="388476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1"/>
          <p:cNvSpPr/>
          <p:nvPr/>
        </p:nvSpPr>
        <p:spPr>
          <a:xfrm>
            <a:off x="1827360" y="2465280"/>
            <a:ext cx="175716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2"/>
          <p:cNvSpPr/>
          <p:nvPr/>
        </p:nvSpPr>
        <p:spPr>
          <a:xfrm>
            <a:off x="770040" y="4519440"/>
            <a:ext cx="340200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3"/>
          <p:cNvSpPr/>
          <p:nvPr/>
        </p:nvSpPr>
        <p:spPr>
          <a:xfrm>
            <a:off x="1355760" y="4970520"/>
            <a:ext cx="340200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4"/>
          <p:cNvSpPr/>
          <p:nvPr/>
        </p:nvSpPr>
        <p:spPr>
          <a:xfrm>
            <a:off x="1335240" y="5432400"/>
            <a:ext cx="340200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图片 139265" descr=""/>
          <p:cNvPicPr/>
          <p:nvPr/>
        </p:nvPicPr>
        <p:blipFill>
          <a:blip r:embed="rId1"/>
          <a:stretch/>
        </p:blipFill>
        <p:spPr>
          <a:xfrm>
            <a:off x="704880" y="925560"/>
            <a:ext cx="3467160" cy="1324080"/>
          </a:xfrm>
          <a:prstGeom prst="rect">
            <a:avLst/>
          </a:prstGeom>
          <a:ln w="0">
            <a:noFill/>
          </a:ln>
        </p:spPr>
      </p:pic>
      <p:pic>
        <p:nvPicPr>
          <p:cNvPr id="1343" name="图片 139266" descr=""/>
          <p:cNvPicPr/>
          <p:nvPr/>
        </p:nvPicPr>
        <p:blipFill>
          <a:blip r:embed="rId2"/>
          <a:stretch/>
        </p:blipFill>
        <p:spPr>
          <a:xfrm>
            <a:off x="115920" y="3187800"/>
            <a:ext cx="7819920" cy="2743200"/>
          </a:xfrm>
          <a:prstGeom prst="rect">
            <a:avLst/>
          </a:prstGeom>
          <a:ln w="0">
            <a:noFill/>
          </a:ln>
        </p:spPr>
      </p:pic>
      <p:sp>
        <p:nvSpPr>
          <p:cNvPr id="1344" name="矩形 139267"/>
          <p:cNvSpPr/>
          <p:nvPr/>
        </p:nvSpPr>
        <p:spPr>
          <a:xfrm>
            <a:off x="719280" y="1376280"/>
            <a:ext cx="336060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39268"/>
          <p:cNvSpPr/>
          <p:nvPr/>
        </p:nvSpPr>
        <p:spPr>
          <a:xfrm>
            <a:off x="1049400" y="1859040"/>
            <a:ext cx="336060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39269"/>
          <p:cNvSpPr/>
          <p:nvPr/>
        </p:nvSpPr>
        <p:spPr>
          <a:xfrm>
            <a:off x="525600" y="4633920"/>
            <a:ext cx="73879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39270"/>
          <p:cNvSpPr/>
          <p:nvPr/>
        </p:nvSpPr>
        <p:spPr>
          <a:xfrm>
            <a:off x="576360" y="5086440"/>
            <a:ext cx="738828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9271"/>
          <p:cNvSpPr/>
          <p:nvPr/>
        </p:nvSpPr>
        <p:spPr>
          <a:xfrm>
            <a:off x="627120" y="5497560"/>
            <a:ext cx="30733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图片 138241" descr=""/>
          <p:cNvPicPr/>
          <p:nvPr/>
        </p:nvPicPr>
        <p:blipFill>
          <a:blip r:embed="rId1"/>
          <a:stretch/>
        </p:blipFill>
        <p:spPr>
          <a:xfrm>
            <a:off x="660240" y="882720"/>
            <a:ext cx="6400800" cy="3238560"/>
          </a:xfrm>
          <a:prstGeom prst="rect">
            <a:avLst/>
          </a:prstGeom>
          <a:ln w="0">
            <a:noFill/>
          </a:ln>
        </p:spPr>
      </p:pic>
      <p:sp>
        <p:nvSpPr>
          <p:cNvPr id="1350" name="矩形 138242"/>
          <p:cNvSpPr/>
          <p:nvPr/>
        </p:nvSpPr>
        <p:spPr>
          <a:xfrm>
            <a:off x="657360" y="1644480"/>
            <a:ext cx="549720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8243"/>
          <p:cNvSpPr/>
          <p:nvPr/>
        </p:nvSpPr>
        <p:spPr>
          <a:xfrm>
            <a:off x="1684440" y="2435400"/>
            <a:ext cx="549756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8244"/>
          <p:cNvSpPr/>
          <p:nvPr/>
        </p:nvSpPr>
        <p:spPr>
          <a:xfrm>
            <a:off x="1838160" y="3287880"/>
            <a:ext cx="1665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8245"/>
          <p:cNvSpPr/>
          <p:nvPr/>
        </p:nvSpPr>
        <p:spPr>
          <a:xfrm>
            <a:off x="1787400" y="3740040"/>
            <a:ext cx="1665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37217" descr=""/>
          <p:cNvPicPr/>
          <p:nvPr/>
        </p:nvPicPr>
        <p:blipFill>
          <a:blip r:embed="rId1"/>
          <a:stretch/>
        </p:blipFill>
        <p:spPr>
          <a:xfrm>
            <a:off x="674640" y="860400"/>
            <a:ext cx="7591320" cy="2647800"/>
          </a:xfrm>
          <a:prstGeom prst="rect">
            <a:avLst/>
          </a:prstGeom>
          <a:ln w="0">
            <a:noFill/>
          </a:ln>
        </p:spPr>
      </p:pic>
      <p:pic>
        <p:nvPicPr>
          <p:cNvPr id="1355" name="图片 137218" descr=""/>
          <p:cNvPicPr/>
          <p:nvPr/>
        </p:nvPicPr>
        <p:blipFill>
          <a:blip r:embed="rId2"/>
          <a:stretch/>
        </p:blipFill>
        <p:spPr>
          <a:xfrm>
            <a:off x="1890720" y="3637080"/>
            <a:ext cx="6353280" cy="3038400"/>
          </a:xfrm>
          <a:prstGeom prst="rect">
            <a:avLst/>
          </a:prstGeom>
          <a:ln w="0">
            <a:noFill/>
          </a:ln>
        </p:spPr>
      </p:pic>
      <p:sp>
        <p:nvSpPr>
          <p:cNvPr id="1356" name="矩形 137219"/>
          <p:cNvSpPr/>
          <p:nvPr/>
        </p:nvSpPr>
        <p:spPr>
          <a:xfrm>
            <a:off x="615960" y="1757520"/>
            <a:ext cx="7799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7220"/>
          <p:cNvSpPr/>
          <p:nvPr/>
        </p:nvSpPr>
        <p:spPr>
          <a:xfrm>
            <a:off x="708120" y="2168640"/>
            <a:ext cx="7799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7221"/>
          <p:cNvSpPr/>
          <p:nvPr/>
        </p:nvSpPr>
        <p:spPr>
          <a:xfrm>
            <a:off x="820800" y="2630520"/>
            <a:ext cx="7799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7222"/>
          <p:cNvSpPr/>
          <p:nvPr/>
        </p:nvSpPr>
        <p:spPr>
          <a:xfrm>
            <a:off x="841320" y="3112920"/>
            <a:ext cx="7799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7223"/>
          <p:cNvSpPr/>
          <p:nvPr/>
        </p:nvSpPr>
        <p:spPr>
          <a:xfrm>
            <a:off x="892080" y="3586320"/>
            <a:ext cx="7799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7224"/>
          <p:cNvSpPr/>
          <p:nvPr/>
        </p:nvSpPr>
        <p:spPr>
          <a:xfrm>
            <a:off x="923760" y="4059360"/>
            <a:ext cx="779940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7225"/>
          <p:cNvSpPr/>
          <p:nvPr/>
        </p:nvSpPr>
        <p:spPr>
          <a:xfrm>
            <a:off x="882720" y="4491000"/>
            <a:ext cx="7799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7226"/>
          <p:cNvSpPr/>
          <p:nvPr/>
        </p:nvSpPr>
        <p:spPr>
          <a:xfrm>
            <a:off x="912960" y="4910040"/>
            <a:ext cx="7799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7227"/>
          <p:cNvSpPr/>
          <p:nvPr/>
        </p:nvSpPr>
        <p:spPr>
          <a:xfrm>
            <a:off x="922320" y="5362560"/>
            <a:ext cx="489096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7228"/>
          <p:cNvSpPr/>
          <p:nvPr/>
        </p:nvSpPr>
        <p:spPr>
          <a:xfrm>
            <a:off x="1085760" y="5824440"/>
            <a:ext cx="48913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7229"/>
          <p:cNvSpPr/>
          <p:nvPr/>
        </p:nvSpPr>
        <p:spPr>
          <a:xfrm>
            <a:off x="1147680" y="6256440"/>
            <a:ext cx="4891320" cy="3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6193" descr=""/>
          <p:cNvPicPr/>
          <p:nvPr/>
        </p:nvPicPr>
        <p:blipFill>
          <a:blip r:embed="rId1"/>
          <a:stretch/>
        </p:blipFill>
        <p:spPr>
          <a:xfrm>
            <a:off x="593640" y="938160"/>
            <a:ext cx="7601040" cy="406728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6194"/>
          <p:cNvSpPr/>
          <p:nvPr/>
        </p:nvSpPr>
        <p:spPr>
          <a:xfrm>
            <a:off x="625320" y="1736640"/>
            <a:ext cx="7871040" cy="6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6195"/>
          <p:cNvSpPr/>
          <p:nvPr/>
        </p:nvSpPr>
        <p:spPr>
          <a:xfrm>
            <a:off x="614520" y="2517840"/>
            <a:ext cx="7870680" cy="687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6196"/>
          <p:cNvSpPr/>
          <p:nvPr/>
        </p:nvSpPr>
        <p:spPr>
          <a:xfrm>
            <a:off x="809640" y="3390840"/>
            <a:ext cx="3092400" cy="68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6197"/>
          <p:cNvSpPr/>
          <p:nvPr/>
        </p:nvSpPr>
        <p:spPr>
          <a:xfrm>
            <a:off x="1716120" y="4181400"/>
            <a:ext cx="172728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6198"/>
          <p:cNvSpPr/>
          <p:nvPr/>
        </p:nvSpPr>
        <p:spPr>
          <a:xfrm>
            <a:off x="1684440" y="4632480"/>
            <a:ext cx="17269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图片 135169" descr=""/>
          <p:cNvPicPr/>
          <p:nvPr/>
        </p:nvPicPr>
        <p:blipFill>
          <a:blip r:embed="rId1"/>
          <a:stretch/>
        </p:blipFill>
        <p:spPr>
          <a:xfrm>
            <a:off x="177840" y="846000"/>
            <a:ext cx="6095880" cy="5648400"/>
          </a:xfrm>
          <a:prstGeom prst="rect">
            <a:avLst/>
          </a:prstGeom>
          <a:ln w="0">
            <a:noFill/>
          </a:ln>
        </p:spPr>
      </p:pic>
      <p:sp>
        <p:nvSpPr>
          <p:cNvPr id="1374" name="矩形 135170"/>
          <p:cNvSpPr/>
          <p:nvPr/>
        </p:nvSpPr>
        <p:spPr>
          <a:xfrm>
            <a:off x="646200" y="2228760"/>
            <a:ext cx="5033880" cy="67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5171"/>
          <p:cNvSpPr/>
          <p:nvPr/>
        </p:nvSpPr>
        <p:spPr>
          <a:xfrm>
            <a:off x="1879560" y="3032280"/>
            <a:ext cx="24163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135172"/>
          <p:cNvSpPr/>
          <p:nvPr/>
        </p:nvSpPr>
        <p:spPr>
          <a:xfrm>
            <a:off x="1684440" y="3463920"/>
            <a:ext cx="2415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5173"/>
          <p:cNvSpPr/>
          <p:nvPr/>
        </p:nvSpPr>
        <p:spPr>
          <a:xfrm>
            <a:off x="544680" y="4748040"/>
            <a:ext cx="551952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5174"/>
          <p:cNvSpPr/>
          <p:nvPr/>
        </p:nvSpPr>
        <p:spPr>
          <a:xfrm>
            <a:off x="1509840" y="5230800"/>
            <a:ext cx="346536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5175"/>
          <p:cNvSpPr/>
          <p:nvPr/>
        </p:nvSpPr>
        <p:spPr>
          <a:xfrm>
            <a:off x="1528920" y="5672160"/>
            <a:ext cx="346536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5176"/>
          <p:cNvSpPr/>
          <p:nvPr/>
        </p:nvSpPr>
        <p:spPr>
          <a:xfrm>
            <a:off x="1539720" y="6083280"/>
            <a:ext cx="346572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1" name="图片 134145" descr=""/>
          <p:cNvPicPr/>
          <p:nvPr/>
        </p:nvPicPr>
        <p:blipFill>
          <a:blip r:embed="rId1"/>
          <a:stretch/>
        </p:blipFill>
        <p:spPr>
          <a:xfrm>
            <a:off x="324000" y="893880"/>
            <a:ext cx="8038800" cy="5324400"/>
          </a:xfrm>
          <a:prstGeom prst="rect">
            <a:avLst/>
          </a:prstGeom>
          <a:ln w="0">
            <a:noFill/>
          </a:ln>
        </p:spPr>
      </p:pic>
      <p:sp>
        <p:nvSpPr>
          <p:cNvPr id="1382" name="矩形 134146"/>
          <p:cNvSpPr/>
          <p:nvPr/>
        </p:nvSpPr>
        <p:spPr>
          <a:xfrm>
            <a:off x="728640" y="3030480"/>
            <a:ext cx="7602480" cy="68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4147"/>
          <p:cNvSpPr/>
          <p:nvPr/>
        </p:nvSpPr>
        <p:spPr>
          <a:xfrm>
            <a:off x="1785960" y="3873600"/>
            <a:ext cx="2752560" cy="68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34148"/>
          <p:cNvSpPr/>
          <p:nvPr/>
        </p:nvSpPr>
        <p:spPr>
          <a:xfrm>
            <a:off x="1836720" y="4707000"/>
            <a:ext cx="2752920" cy="68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34149"/>
          <p:cNvSpPr/>
          <p:nvPr/>
        </p:nvSpPr>
        <p:spPr>
          <a:xfrm>
            <a:off x="1919160" y="5518080"/>
            <a:ext cx="1406520" cy="68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8:29:16Z</dcterms:modified>
  <cp:revision>7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